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png" ContentType="image/png"/>
  <Override PartName="/ppt/media/image23.jpeg" ContentType="image/jpeg"/>
  <Override PartName="/ppt/media/image22.jpeg" ContentType="image/jpeg"/>
  <Override PartName="/ppt/media/image6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wmf" ContentType="image/x-wmf"/>
  <Override PartName="/ppt/media/image3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24.jpeg" ContentType="image/jpeg"/>
  <Override PartName="/ppt/media/image29.wmf" ContentType="image/x-wmf"/>
  <Override PartName="/ppt/media/image1.png" ContentType="image/pn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3F857-D99D-4E45-97B5-26C2A534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B3FA3-FC15-4947-A9F8-E98D9D98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28A77-CA6F-4DCC-97C7-D62C8E8B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19B8-E13A-4ADA-BD1C-9A66736F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5C33-3CBF-42D3-80DF-39953E60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C0EB-EA67-4245-B9F4-4E49CA0E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39F1-B11D-4851-8C08-CDD85325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97EF-D768-4110-99DC-93B07E9F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CFA5-F2A2-4E93-9F7F-A13EA76F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FDF6-9426-4CC5-B4BC-C28A9480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5A4D-E8A0-45D6-8E2E-C9107AEC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0B11-0BF3-4A55-B0C4-902F751E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DA10-A190-4FEC-AA29-83937017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E1F9-D3AB-4C21-8821-B266D3CC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69C6-AE3A-468C-BB14-74F2615F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A217-A2FC-4537-AABA-940E1630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C69C-D0C2-4B18-9E33-72E9C5FE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3B182-EE05-42F8-A04F-9D8D7A52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764E-2BA3-42BE-8D60-AEAB0E14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52FF8-52ED-4131-BD01-7993F0AA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BD5C-CEEE-41E2-A3C2-7B904231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7442-BE17-4701-B93B-27B77292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B89F-BE2F-4A9A-8AF1-7B40B025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0828-83D1-4901-AE25-4110E89D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D191-8053-4987-85DD-3D3C3FAFF6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B1D9-8FD7-4F1A-A0C3-55E314CB2F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2952720" cy="391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Школьная форма: история и современность.</a:t>
            </a:r>
            <a:r>
              <a:rPr b="1" lang="en-US" sz="8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140000" y="4652640"/>
            <a:ext cx="48258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Автор: Шевцова Полина Сергее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 «Б» класс, гимназия №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Руководитель: Шевцова А.В.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учитель начальных классов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гимназия №1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16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5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824360" cy="305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92720" y="189000"/>
            <a:ext cx="2879640" cy="576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0720" y="189000"/>
            <a:ext cx="2940120" cy="576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124000" y="1341360"/>
            <a:ext cx="5004000" cy="3336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1258920" y="5661000"/>
            <a:ext cx="59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Так было . . 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11280" y="580536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Так стало . . 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7" nodeType="afterEffect" fill="hold" presetClass="emph" presetID="6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78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xit" presetID="2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9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9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1" nodeType="afterEffect" fill="hold" presetClass="emph" presetID="3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2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animClr clrSpc="rgb">
                                      <p:cBhvr>
                                        <p:cTn id="303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set>
                                      <p:cBhvr>
                                        <p:cTn id="304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7" nodeType="afterEffect" fill="hold" presetClass="emph" presetID="3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8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animClr clrSpc="rgb">
                                      <p:cBhvr>
                                        <p:cTn id="319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set>
                                      <p:cBhvr>
                                        <p:cTn id="320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1500"/>
                            </p:stCondLst>
                            <p:childTnLst>
                              <p:par>
                                <p:cTn id="327" nodeType="afterEffect" fill="hold" presetClass="exit" presetID="2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32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2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33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4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41" nodeType="afterEffect" fill="hold" presetClass="emph" presetID="6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45" dur="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46" dur="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8000"/>
                            </p:stCondLst>
                            <p:childTnLst>
                              <p:par>
                                <p:cTn id="348" nodeType="afterEffect" fill="hold" presetClass="exit" presetID="2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5932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259240" y="1268280"/>
            <a:ext cx="2963880" cy="432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981000" y="1268280"/>
            <a:ext cx="2727360" cy="4248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166840" y="260280"/>
            <a:ext cx="4518000" cy="6337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xit" presetID="29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4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3" nodeType="afterEffect" fill="hold" presetClass="exit" presetID="29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тоит ли перед вами проблема: в чём пойти в школу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1636560"/>
          <a:ext cx="822960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36560"/>
                    <a:ext cx="822960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ужна ли форма ученикам начальной школы? (Ученики - 186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3840" y="941400"/>
          <a:ext cx="7464240" cy="59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941400"/>
                    <a:ext cx="7464240" cy="59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8218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Стоит ли перед вами проблема: в чём отправить ребёнка в школу? 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(Родители – 41 чел.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34800" y="1989000"/>
          <a:ext cx="81900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989000"/>
                    <a:ext cx="81900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ужна ли форма ученикам начальной школы? (Родители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3200" y="1982880"/>
          <a:ext cx="8529840" cy="46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1982880"/>
                    <a:ext cx="8529840" cy="46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218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люсы школьной форм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т сильного социального различи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орма дисциплинирует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пособствует сплочению коллекти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инусы форм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т возможности выразить себя в одежд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ебенок не будет носить форму нигде кроме школы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единый фасон школьной формы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крыть полностью социальную разницу никакая форма не может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80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8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92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74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8260"/>
                            </p:stCondLst>
                            <p:childTnLst>
                              <p:par>
                                <p:cTn id="48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160"/>
                            </p:stCondLst>
                            <p:childTnLst>
                              <p:par>
                                <p:cTn id="49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1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1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326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300"/>
                            </p:stCondLst>
                            <p:childTnLst>
                              <p:par>
                                <p:cTn id="50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1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1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e0057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Такой может быть форм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77080" y="1125360"/>
            <a:ext cx="1909800" cy="2664000"/>
          </a:xfrm>
          <a:prstGeom prst="rect">
            <a:avLst/>
          </a:prstGeom>
          <a:ln w="38160">
            <a:solidFill>
              <a:srgbClr val="a886e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916360" y="1341360"/>
            <a:ext cx="2923920" cy="5184720"/>
          </a:xfrm>
          <a:prstGeom prst="rect">
            <a:avLst/>
          </a:prstGeom>
          <a:ln w="38160">
            <a:solidFill>
              <a:srgbClr val="a886e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227640" y="4005360"/>
            <a:ext cx="1909800" cy="2636640"/>
          </a:xfrm>
          <a:prstGeom prst="rect">
            <a:avLst/>
          </a:prstGeom>
          <a:ln w="38160">
            <a:solidFill>
              <a:srgbClr val="a886e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24000" y="1197000"/>
            <a:ext cx="1655640" cy="2519280"/>
          </a:xfrm>
          <a:prstGeom prst="rect">
            <a:avLst/>
          </a:prstGeom>
          <a:ln w="38160">
            <a:solidFill>
              <a:srgbClr val="a886e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55640" y="3860640"/>
            <a:ext cx="1832040" cy="2735280"/>
          </a:xfrm>
          <a:prstGeom prst="rect">
            <a:avLst/>
          </a:prstGeom>
          <a:ln w="38160">
            <a:solidFill>
              <a:srgbClr val="a886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Школьная форма для девочек и для мальчиков имеет преимуществ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81640" indent="-4744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глаживает социальное неравенство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81640" indent="-4744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оспитывает  в ребенке дисциплину и хороший вкус к элегантному деловому стилю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81640" indent="-4744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формирует чувства сплоченности с классом, школ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Школьная форма должна быть удобной, практичной, качественной, модной, и главное – она должна нравится самим школьника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учебных заведениях, не имеющих школьной формы, могут существовать правила ношения одежд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700"/>
                            </p:stCondLst>
                            <p:childTnLst>
                              <p:par>
                                <p:cTn id="57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520"/>
                            </p:stCondLst>
                            <p:childTnLst>
                              <p:par>
                                <p:cTn id="58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9240"/>
                            </p:stCondLst>
                            <p:childTnLst>
                              <p:par>
                                <p:cTn id="58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2540"/>
                            </p:stCondLst>
                            <p:childTnLst>
                              <p:par>
                                <p:cTn id="59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8240"/>
                            </p:stCondLst>
                            <p:childTnLst>
                              <p:par>
                                <p:cTn id="598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писок литературы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азета «Аргументы и факты» №9, 2007 го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урнал «Классное руководство и воспитание школьников». Классный час. Стильно! Модно! Школьно! - №12/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Независимая газета»,  статья «России вернут школьную форму» от 26.01.200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йт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tp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//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kipedia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ki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тернет - энциклопедия «ВикипедиЯ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.   Энциклопедия «Общество» издательство «Аванта +», 2007 год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55640" y="189000"/>
            <a:ext cx="31683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Цель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569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ыяснить: нужна ли форма современным школьникам начальных клас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1916280"/>
            <a:ext cx="20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2565360"/>
            <a:ext cx="820872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Изучить литературу по данному вопрос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ровести анкетирование учащихся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 ,3, 4 – х классов и их родител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редложить свои варианты школьной фор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4437000"/>
            <a:ext cx="230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Метод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5157720"/>
            <a:ext cx="43214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Анкетир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Работа с литератур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оделир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400"/>
                            </p:stCondLst>
                            <p:childTnLst>
                              <p:par>
                                <p:cTn id="67" nodeType="after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4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20"/>
                            </p:stCondLst>
                            <p:childTnLst>
                              <p:par>
                                <p:cTn id="81" nodeType="afterEffect" fill="hold" presetClass="entr" presetID="54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02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392720" cy="2138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400560" cy="4896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093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Форма гимназистов (1916 год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4437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Смольный институт благородных деви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03040" y="189000"/>
            <a:ext cx="4368960" cy="648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>
            <a:lum contrast="18000"/>
          </a:blip>
          <a:srcRect l="3379" t="2839" r="1564" b="12815"/>
          <a:stretch/>
        </p:blipFill>
        <p:spPr>
          <a:xfrm>
            <a:off x="4886280" y="189000"/>
            <a:ext cx="4133880" cy="647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Младшие школьники 60 – х год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contrast="30000"/>
          </a:blip>
          <a:srcRect l="0" t="0" r="12103" b="0"/>
          <a:stretch/>
        </p:blipFill>
        <p:spPr>
          <a:xfrm>
            <a:off x="4932360" y="1268280"/>
            <a:ext cx="3186000" cy="5257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3724560" cy="5256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арадная фор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664160" cy="5256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76720" y="1341360"/>
            <a:ext cx="3868920" cy="5256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крашения школьной фор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4430" t="1489" r="5021" b="56774"/>
          <a:stretch/>
        </p:blipFill>
        <p:spPr>
          <a:xfrm>
            <a:off x="395280" y="981000"/>
            <a:ext cx="3672000" cy="2016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284720" y="981000"/>
            <a:ext cx="4535280" cy="1994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763640" y="3141720"/>
            <a:ext cx="2525760" cy="3502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716360" y="3141720"/>
            <a:ext cx="2754360" cy="3500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241440" cy="25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7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Форма мальчиков 80-х - 90-х год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-9418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40360" y="1341360"/>
            <a:ext cx="446400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619280" y="4076640"/>
            <a:ext cx="3635280" cy="2543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651640" y="4581360"/>
            <a:ext cx="1939680" cy="1989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таршеклассницы 80-90-х год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79640" y="1268280"/>
            <a:ext cx="4538520" cy="4561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8:53:25Z</dcterms:created>
  <dc:creator>Анжела</dc:creator>
  <dc:description/>
  <dc:language>en-US</dc:language>
  <cp:lastModifiedBy>biggreeder</cp:lastModifiedBy>
  <dcterms:modified xsi:type="dcterms:W3CDTF">2010-01-30T10:58:21Z</dcterms:modified>
  <cp:revision>32</cp:revision>
  <dc:subject/>
  <dc:title>Школьная одежд</dc:title>
</cp:coreProperties>
</file>